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710-8F92-4C17-9257-AFB1FAF0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95B-F864-4CE1-AAEC-2E68E749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AA2-01B2-466C-93DD-1A4B35EE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836-AFCB-424E-91C7-87D0391A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50CC-55B8-42D7-9F69-A54D4062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FF88-12DC-4789-AD60-15153251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E1FE-48AA-4943-ABCB-3B58F980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43B2-D5C1-4532-8DD6-ABFF8526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791C-7AF0-4CF6-9498-7EF38365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8BBA-E0A4-416C-9E31-06482181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469-F725-4779-AE57-50AA0E3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B2E-730A-4BB2-B0A5-4BE9868D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3692-1CC3-4966-9F64-EEEF7C96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1C03-DCB2-49B7-900C-E728E15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AAB7-65E7-4BFB-B413-B669778B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A47E-C1FF-4B32-8994-F4C38902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FDA4-0C04-4B17-AF46-8B8BF6E8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85D5-14F6-4C9E-8F51-EBB6DD1B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999C-4C5B-4AD9-8A19-445C2A5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D2A5-3C7A-41E8-AD83-A918ADA0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7BCD-6EAA-40E5-AE18-4D0BD9F8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5A4C-6B4E-49E4-8CC3-3EDC4714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483-FB3A-4E45-8FEC-E402E4B1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91BB-85A3-4ADC-9E67-9A2C4981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4055-7FE7-4E18-BAF6-6146768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970E9-217B-49C1-A9FE-87FDC3B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EA47-273F-45F6-82C9-BD8612DC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D339-D5DC-445D-A479-798FEDB1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F461-BAE7-417B-AB35-37617298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9C2F-A8BD-41CE-837A-F08EBB8A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0223F-D701-4969-A051-01D4B0B0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C08CE-A80F-4069-BE2E-035B03FB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7600-3A78-4240-9EC0-8789E02D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09C-2796-407D-A802-7DB7BC7A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7D04-12B3-4439-B044-8BEFD32F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2C71F-D970-404F-998C-E36C5867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F5BA-4F95-4F92-B882-DB88F1B9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C245-977E-4CB3-9274-E2094E3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39C5-59DB-41E2-A40E-DC512842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B706-9FE0-48E5-8A48-640EA86A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F330-160B-4417-8CD9-B0E41BF9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14EA8-D707-4CFE-A535-9A74D4A1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39E6F-1536-4B00-8277-4A1F006B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EBE9-552E-4BF3-9947-A0E663E3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F8A-AA8E-4150-8234-E4C56B36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E947D-8AE2-4F33-88D9-36879F9F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33952-61C4-455C-A6E8-7A62394F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D32C0-D095-4AEC-B1F7-A02EAF0F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DB32-8DD1-408F-A907-62852901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5F165-F714-4B05-954E-F4EDF004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A71F6-2694-4001-8805-53EAE590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674C-D176-4B09-932C-5153C22E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D8CC-6A54-4B5D-B3D6-A8513C0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8BC8D-75DE-4A2A-B132-A258AD2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C6551-F8B1-4D5D-901F-3822533D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6FD-54D7-4501-A8C9-F9E7B95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D62E-4E4F-4B7C-9C5F-663B2A77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D6F-1D36-46A1-9974-C22CE11E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389-3169-44CD-AA56-C113F5C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B3F-C0DB-4F02-8933-7AAC4EDC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FCD6-7AFB-41D7-AD38-BC579BDBEDE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E858-7D67-454E-84F8-309E3EA776B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5A35-7944-4901-ACA0-66DAEB1C228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A0BE-E3EC-4BB5-A80B-167AF5A825C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70AD-BCC1-46FE-BE78-B656EA40498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played (gam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jugu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bega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empec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shower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me duch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shav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l se afeit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y got up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os se levant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/fam washed yours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ú te lavas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danc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bail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/fam swa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ú nadas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looked for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l busc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pl/fam cook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osotros cocin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found/encounter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sotros encontr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y practic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os practic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/form sa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d. cant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took ou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saqu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3:23:06Z</dcterms:created>
  <dc:creator>Coffman, Kristie</dc:creator>
  <dc:description/>
  <dc:language>en-US</dc:language>
  <cp:lastModifiedBy>Prine, Stephanie</cp:lastModifiedBy>
  <dcterms:modified xsi:type="dcterms:W3CDTF">2012-11-29T14:34:48Z</dcterms:modified>
  <cp:revision>2</cp:revision>
  <dc:subject/>
  <dc:title>5-3 2nd ‘ar preterite practice</dc:title>
</cp:coreProperties>
</file>